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BAD0-73F6-4E19-95AF-F0B5B164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5070-6444-4778-9F0A-1338F621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AE67-F538-4920-9B36-BE3C1FB1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948E-FFAA-4333-A2C6-2C8798C03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4EB3-8B99-49BF-8B8A-5E9568E6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9790-7744-4685-8AE6-B3E016CC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4B0D-D7ED-4787-B4E8-363F728D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38C0-5A5D-4CE8-87B0-45E5E471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181F-E50D-4E68-B5C1-E75A05A9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13A8-55DB-41CB-B66E-BDBB0822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6BA2-CC44-4A4E-B073-32279E11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FF0C-79C4-4DB3-90C3-69F19C1C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0538-1547-4AFC-A497-599B0BE6E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Showcard Gothic"/>
              </a:rPr>
              <a:t>Genetic </a:t>
            </a:r>
            <a:r>
              <a:rPr b="0" lang="en-US" sz="4400" spc="-1" strike="noStrike">
                <a:solidFill>
                  <a:srgbClr val="bbe0e3"/>
                </a:solidFill>
                <a:latin typeface="Comic Sans MS"/>
              </a:rPr>
              <a:t>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of making changes in the DNA code of living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Comic Sans MS"/>
              </a:rPr>
              <a:t>Cl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Comic Sans MS"/>
              </a:rPr>
              <a:t>A </a:t>
            </a:r>
            <a:r>
              <a:rPr b="0" lang="en-US" sz="3200" spc="-1" strike="noStrike" u="sng">
                <a:solidFill>
                  <a:srgbClr val="bbe0e3"/>
                </a:solidFill>
                <a:uFillTx/>
                <a:latin typeface="Comic Sans MS"/>
              </a:rPr>
              <a:t>clone</a:t>
            </a:r>
            <a:r>
              <a:rPr b="0" lang="en-US" sz="3200" spc="-1" strike="noStrike">
                <a:solidFill>
                  <a:srgbClr val="bbe0e3"/>
                </a:solidFill>
                <a:latin typeface="Comic Sans MS"/>
              </a:rPr>
              <a:t> is a member of genetically identical cells produced from a singl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Comic Sans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Comic Sans MS"/>
              </a:rPr>
              <a:t>Scientists use their knowledge of the structure of DNA and its chemical properties to study and change DNA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be0e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Comic Sans MS"/>
              </a:rPr>
              <a:t>Different techniques are used to extract DNA from cells, to cut DNA into smaller pieces, to identify the sequence of bases in a DNA molecule, and to make unlimited copies of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Comic Sans MS"/>
              </a:rPr>
              <a:t>Separation of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Comic Sans MS"/>
              </a:rPr>
              <a:t>DNA can be extracted from cells by a simple chemical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be0e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Comic Sans MS"/>
              </a:rPr>
              <a:t>The cells are opened up and the DNA is separated from the other cell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Comic Sans MS"/>
              </a:rPr>
              <a:t>Cutting the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be0e3"/>
                </a:solidFill>
                <a:uFillTx/>
                <a:latin typeface="Comic Sans MS"/>
              </a:rPr>
              <a:t>Restriction 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be0e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Comic Sans MS"/>
              </a:rPr>
              <a:t>Proteins that cut DNA at specific sequences of 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Comic Sans MS"/>
              </a:rPr>
              <a:t>Actually used by bacteria as a defense against viral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Comic Sans MS"/>
              </a:rPr>
              <a:t>Separating the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be0e3"/>
                </a:solidFill>
                <a:uFillTx/>
                <a:latin typeface="Comic Sans MS"/>
              </a:rPr>
              <a:t>Gel electrophor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Comic Sans MS"/>
              </a:rPr>
              <a:t>Separation of DNA fragments through a porous gel using electrical cur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be0e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Comic Sans MS"/>
              </a:rPr>
              <a:t>The smaller the DNA fragment, the further it travels through the g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Comic Sans MS"/>
              </a:rPr>
              <a:t>Recombinant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Comic Sans MS"/>
              </a:rPr>
              <a:t>Combining DNA from two different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be0e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Comic Sans MS"/>
              </a:rPr>
              <a:t>Use restriction enzymes on both organism’s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be0e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Comic Sans MS"/>
              </a:rPr>
              <a:t>Take one piece of desired DNA(a gene) and insert it into DNA of the other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Comic Sans MS"/>
              </a:rPr>
              <a:t>Recombinant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Comic Sans MS"/>
              </a:rPr>
              <a:t>Use plasmids found in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be0e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be0e3"/>
                </a:solidFill>
                <a:uFillTx/>
                <a:latin typeface="Comic Sans MS"/>
              </a:rPr>
              <a:t>Plasmid</a:t>
            </a:r>
            <a:r>
              <a:rPr b="0" lang="en-US" sz="2800" spc="-1" strike="noStrike">
                <a:solidFill>
                  <a:srgbClr val="bbe0e3"/>
                </a:solidFill>
                <a:latin typeface="Comic Sans MS"/>
              </a:rPr>
              <a:t> – a small circular piece of DNA that contains two essential pie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Comic Sans MS"/>
              </a:rPr>
              <a:t>A DNA sequence that helps promote plasmid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Comic Sans MS"/>
              </a:rPr>
              <a:t>A genetic marker or a gene that makes is possible to distinguish bacteria that have the plasm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Comic Sans MS"/>
              </a:rPr>
              <a:t>Transgenic org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Comic Sans MS"/>
              </a:rPr>
              <a:t>Organisms who have accepted recombined DNA are called </a:t>
            </a:r>
            <a:r>
              <a:rPr b="0" lang="en-US" sz="3200" spc="-1" strike="noStrike" u="sng">
                <a:solidFill>
                  <a:srgbClr val="bbe0e3"/>
                </a:solidFill>
                <a:uFillTx/>
                <a:latin typeface="Comic Sans MS"/>
              </a:rPr>
              <a:t>transgenic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be0e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Comic Sans MS"/>
              </a:rPr>
              <a:t>They now have copies of a foreign DNA incorporated into their own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Comic Sans MS"/>
              </a:rPr>
              <a:t>PC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be0e3"/>
                </a:solidFill>
                <a:uFillTx/>
                <a:latin typeface="Comic Sans MS"/>
              </a:rPr>
              <a:t>Polymerase chain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Comic Sans MS"/>
              </a:rPr>
              <a:t>Technique used to make several copies of a sequence of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Comic Sans MS"/>
              </a:rPr>
              <a:t>Amount of DNA doubles after each round of PC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Comic Sans MS"/>
              </a:rPr>
              <a:t>DNA is heated to separate the strands, then it is cooled to allow a primer to bond to the single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Comic Sans MS"/>
              </a:rPr>
              <a:t>DNA polymerase then adds free dNA nucleo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13:53:50Z</dcterms:created>
  <dc:creator>bpalme</dc:creator>
  <dc:description/>
  <dc:language>en-US</dc:language>
  <cp:lastModifiedBy>udsd</cp:lastModifiedBy>
  <dcterms:modified xsi:type="dcterms:W3CDTF">2009-05-26T12:04:04Z</dcterms:modified>
  <cp:revision>6</cp:revision>
  <dc:subject/>
  <dc:title>Genetic Engineering</dc:title>
</cp:coreProperties>
</file>